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350-3A76-4760-8530-34879816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E96-41A8-40B5-90EA-1DF52608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661-B2D8-47A7-8BF7-55AB6CE7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342-2959-44A4-A5A4-0D26E8B1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208-D8B6-41DF-A733-70A1D06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AAE3-8377-453B-AA15-79BD045B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386F-7517-471B-B249-1704003D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684-5251-41AC-A002-AE716E60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A84E-F243-4E46-8CEA-B360AAD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80FF-0B38-499D-98E8-A0A63F3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28E-CB07-4E97-9B3A-6E691661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42-BEF1-4A57-B3C3-F4E9EF5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4DB-053B-40BC-95D2-0AAB15D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D6B-E673-404E-9603-430C4FD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F11-AE75-4EDB-B5BE-8C28E95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318-2B68-4C94-A942-A1466254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A490-757D-4FDF-83BF-FF14B9F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2B0-C5C6-44AF-B885-651EF6A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FAD-A874-48FB-B48F-54B2BF3D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01F-903B-4A3C-9506-796E8C2E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446-3B23-4779-AA0A-E3F33461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C6F-2739-4801-B4AF-4A74F41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2A-26EA-4F02-A788-F7F1FAB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612-0EEC-4967-BAF3-E2E0FAE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6D9-8686-4F21-9A7B-82B83FA26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EAE0-0E14-4B56-BE1D-90BD763CF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uxist.com/gallery/70million-second-home/4011504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45756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grand maison de Yuri Mil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240" y="480024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Nicole Shah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Yuri Milner $70 million home in Silicon Valley California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loir en ha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’est une piece de luxe avec des  blanc murs jau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Upstairs H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00400"/>
            <a:ext cx="5524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le a` Ma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y a salle a` manger  avec blanc murs , duex chandeliers, rouge chaise et la t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Formal Dining Room"/>
          <p:cNvPicPr/>
          <p:nvPr/>
        </p:nvPicPr>
        <p:blipFill>
          <a:blip r:embed="rId1"/>
          <a:stretch/>
        </p:blipFill>
        <p:spPr>
          <a:xfrm>
            <a:off x="312408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the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 endroit est ideal pour  faire votr devoir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Formal Library"/>
          <p:cNvPicPr/>
          <p:nvPr/>
        </p:nvPicPr>
        <p:blipFill>
          <a:blip r:embed="rId1"/>
          <a:stretch/>
        </p:blipFill>
        <p:spPr>
          <a:xfrm>
            <a:off x="320040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veilleuse  salon est vert et blanc avec trois fenet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Master Sitting Room"/>
          <p:cNvPicPr/>
          <p:nvPr/>
        </p:nvPicPr>
        <p:blipFill>
          <a:blip r:embed="rId1"/>
          <a:stretch/>
        </p:blipFill>
        <p:spPr>
          <a:xfrm>
            <a:off x="320040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ham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y a rose meubles dans le cha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Master Bedroom"/>
          <p:cNvPicPr/>
          <p:nvPr/>
        </p:nvPicPr>
        <p:blipFill>
          <a:blip r:embed="rId1"/>
          <a:stretch/>
        </p:blipFill>
        <p:spPr>
          <a:xfrm>
            <a:off x="312408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ham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`est une chambre rouge avec le 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6210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divan est bleu. Les murs, chaises et chandelier sont bla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62103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Le Fi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55:46Z</dcterms:created>
  <dc:creator>edill</dc:creator>
  <dc:description/>
  <dc:language>en-US</dc:language>
  <cp:lastModifiedBy>Elena Shahid</cp:lastModifiedBy>
  <dcterms:modified xsi:type="dcterms:W3CDTF">2011-11-17T03:28:31Z</dcterms:modified>
  <cp:revision>38</cp:revision>
  <dc:subject/>
  <dc:title>La maison Donald Trump</dc:title>
</cp:coreProperties>
</file>